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9672-DEE1-4698-BEEF-2DF626DBA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2CD4-142C-487B-BB84-59FE37BC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6712-D1CA-44F1-BCB2-8DAF7DB84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200B-7098-464C-B23C-3A0DB0592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C07E-A5B5-4C18-A3D1-2D351A44D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3212-2FC6-4180-B54E-C4889B05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A8B4-8F88-4474-802E-D17DB7AC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D1EA-ED48-478A-97D4-CEB24804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5E292-0BD4-4DCA-BE64-F5DA6CC8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59F87-2AA3-409B-B116-870004C8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2252-987D-4828-A211-95B24FE4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132F-1964-46AA-A490-9CD86EF6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ED84-2C3A-41C3-B457-FC5B4606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3CC9-8E90-45E7-8691-283EF816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0E4E7-6991-46A2-9214-9C5679AC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B778-CE92-4606-94B3-C72687540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9BAD-9DEE-41B9-9C8A-F7E5C785E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B6A2-CB85-4CC3-8C47-E53D4825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CA8F-F03B-495A-AE09-EA5E3887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E23E-C805-439C-8B01-072442E4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4999-7D37-4EAF-A374-555F0076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0024-CC05-4AEF-9E54-E962AEAC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D2A0-3F36-4C14-B63E-378E616B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056F-91BF-412E-893B-062D6753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DF82-8DE3-438C-B4F5-F7F46500F3C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AF41-C9D2-4954-8C65-E6A77B0D249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irgendwas@irgendwo" TargetMode="External"/><Relationship Id="rId2" Type="http://schemas.openxmlformats.org/officeDocument/2006/relationships/hyperlink" Target="http://localhost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221304"/>
                </a:solidFill>
                <a:latin typeface="Times New Roman"/>
              </a:rPr>
              <a:t>The  Wamp-Projec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pa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My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221304"/>
                </a:solidFill>
                <a:latin typeface="Times New Roman"/>
              </a:rPr>
              <a:t>Apache installieren und test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pache  *.msi Installer-Version installieren nach D:\Apa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Eingab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omainname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ems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ervername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eigene IP&gt; z.B. 10.3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dmin-Email: </a:t>
            </a:r>
            <a:r>
              <a:rPr b="0" lang="de-DE" sz="24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irgendwas@irgend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Test mit </a:t>
            </a:r>
            <a:r>
              <a:rPr b="0" lang="de-DE" sz="28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http://localhost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 (Proxy abschalten !!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Weitere Tes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tei /htdocs/index.html.de ändern / an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ugriff auf andere Schüler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ugriff auf Unterverzeichnis /htdocs/test/index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221304"/>
                </a:solidFill>
                <a:latin typeface="Times New Roman"/>
              </a:rPr>
              <a:t>MySQL installieren und test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MySQL.x.x.win.zip nach D:\mysql inst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tart mit  \bin\winmysqladmin.ex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ser root und Passwort eingeben (gut mer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mpel öffnen und Oberfläche te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Zugriff mit DOS-Client  \bin\mysq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how databases \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se mysql \g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how tables \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elect * from user \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Zugriff mit MySQL-Fro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ue Verbindung local definieren (Name / Passwo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okal connecten und testen (evtl. PW = le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221304"/>
                </a:solidFill>
                <a:latin typeface="Times New Roman"/>
              </a:rPr>
              <a:t>PHP installieren und test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Php.x.x.x.win.zip nach D:\php4\ inst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pache\conf\httpd.conf wie folgt anpass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it Wordpad am Ende der Datei ergänz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riptAlias /php/ „D:/php/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ddType application/x-httpd-php .php .ph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ction application/x-httpd-php „/php/php.ex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pache neu star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atei mit &lt;?phpinfo (); ?&gt; erzeugen und als info.php in \htdocs speich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m Browser info.php aufrufen und Informationen auswer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221304"/>
                </a:solidFill>
                <a:latin typeface="Times New Roman"/>
              </a:rPr>
              <a:t>phpMyAdmin installier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kript nach \htdocs installi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Evtl.  Verzeichnis nach pma umbenen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Datei config.inc.php3 mit Wordpad aktuelles Passwort eingeb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u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urier Neu"/>
              </a:rPr>
              <a:t>$cfgServers[1]['password']      =‚akt-passwd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urier Neu"/>
              </a:rPr>
              <a:t>Localhost/pma/index.php aufruf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urier Neu"/>
              </a:rPr>
              <a:t>MySQL-Datenbank verwal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EMS</cp:lastModifiedBy>
  <dcterms:modified xsi:type="dcterms:W3CDTF">2002-12-03T16:26:02Z</dcterms:modified>
  <cp:revision>1</cp:revision>
  <dc:subject/>
  <dc:title>PowerPoint Presentation</dc:title>
</cp:coreProperties>
</file>