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9D8-6CD3-4752-BB09-2BECE8A4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F136-38F7-4A33-9C44-CDF3BBA9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483E-8C26-4343-8F43-35017A69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3E5-5698-4AF2-A41B-6C3A63B0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8410-6E19-4CA2-885D-CCEF582B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84AF-0EE2-4FAF-BA43-75139926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485E-4ADF-4F63-AE50-39E1847E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1D36-A26B-44CB-8AF4-EEFF17B5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3E67-4ED7-482D-8E33-405D7C0E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5B4B-73F8-45E9-8A0D-019D805F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6479-E663-4467-9E26-F9A6D2A8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E6A-A7EE-4321-AE23-8445DA14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6045-0107-4524-AB04-64930FF0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E9D1-27AD-46AF-B8BC-296B9FBB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3F8C-93DA-40EC-9B3E-D5B43999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0D38-2B34-4859-B1BC-7E848BC0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C86E-30AC-4575-A324-8D172655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5905-BA4D-4F5B-8C94-1086127E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B79-586F-429F-907E-42F4F6BC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593-5B71-44C9-A6B8-86E8282B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773-5CCF-460C-80BE-47CE0C29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AA4-686B-4529-8834-84CB7A35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4BF7-CF62-4D14-BCAF-856BF6BE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FA7-7BEC-42B6-AA2E-7165A739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D3F3-F72B-43F5-A1FE-64218AEFE9F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3B95-CB43-4882-82A4-AE220DAD10E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rgendwas@irgendwo" TargetMode="External"/><Relationship Id="rId2" Type="http://schemas.openxmlformats.org/officeDocument/2006/relationships/hyperlink" Target="http://localhost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221304"/>
                </a:solidFill>
                <a:latin typeface="Times New Roman"/>
              </a:rPr>
              <a:t>The  Wamp-Projec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p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Apache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  *.msi Installer-Version installieren nach D:\Ap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ingab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omainname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ms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rvername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eigene IP&gt; z.B. 10.3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min-Email: </a:t>
            </a:r>
            <a:r>
              <a:rPr b="0" lang="de-DE" sz="2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irgendwas@irgend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est mit </a:t>
            </a:r>
            <a:r>
              <a:rPr b="0" lang="de-DE" sz="28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http://localhost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(Proxy abschalten !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itere Te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i /htdocs/index.html.de ändern / an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griff auf andere Schüler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griff auf Unterverzeichnis /htdocs/test/index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MySQL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ySQL.x.x.win.zip nach D:\mysql ins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tart mit  \bin\winmysqladmin.ex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er root und Passwort eingeben (gut mer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mpel öffnen und Oberfläche te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ugriff mit DOS-Client  \bin\mysq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how databases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e mysql \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how tables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lect * from user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ugriff mit MySQL-Fro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ue Verbindung local definieren (Name / Passw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okal connecten und testen (evtl. PW = le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PHP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hp.x.x.x.win.zip nach D:\php4\ ins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\conf\httpd.conf wie folgt anpass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Wordpad am Ende der Datei ergänz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riptAlias /php/ „D:/php/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dType application/x-httpd-php .php .ph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ction application/x-httpd-php „/php/php.ex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 neu sta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tei mit &lt;?phpinfo (); ?&gt; erzeugen und als info.php in \htdocs speich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m Browser info.php aufrufen und Informationen auswe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phpMyAdmin installier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kript nach \htdocs install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vtl.  Verzeichnis nach pma umbenen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atei config.inc.php3 mit Wordpad aktuelles Passwort eingeb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u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urier Neu"/>
              </a:rPr>
              <a:t>$cfgServers[1]['password']      =‚akt-passwd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u"/>
              </a:rPr>
              <a:t>Localhost/pma/index.php aufru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u"/>
              </a:rPr>
              <a:t>MySQL-Datenbank verwal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MS</cp:lastModifiedBy>
  <dcterms:modified xsi:type="dcterms:W3CDTF">2002-12-03T16:26:02Z</dcterms:modified>
  <cp:revision>1</cp:revision>
  <dc:subject/>
  <dc:title>PowerPoint Presentation</dc:title>
</cp:coreProperties>
</file>