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6064-84B2-430B-AA37-49F636678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C948-B4C8-477D-8C9F-5700C46D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D424-5B49-458F-B1F5-61E6E0C45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4091-DBDF-4CBF-B57A-EF3A86D43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55EC-2A07-4827-85DA-010848254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B265-916C-4708-B134-DB344FCB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20DD-7BB1-4506-9F36-749AFD25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FE87-D900-4346-B233-9BFE756C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A193-039C-4250-A2A3-B891D575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20D8-33B6-469E-B6EC-7FEF59A4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8561-AFDC-4969-B84C-A3ACEA5E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32C0-FA5B-40BB-9E5E-446E7EFE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551C-E5E6-4D9E-A3F4-191D2057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B815-C58E-4DDF-904D-11142481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10BB-A85E-4DD5-B961-A5C3FD14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3424-3B8F-4045-945D-B33C5532D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E050-E95D-4AC0-BB40-00A92242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CC86-4F42-4F81-B8E0-483E37A6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C3AA-192C-439A-9AF9-F587D8F8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D723-114F-47D4-B2B7-08102AB8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69DA-3AC4-4212-992B-C7643611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D2C4-DB6B-46A8-BD6E-EB80F28D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165B-83F1-4686-B900-ADEC00F9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69C7-34BF-4692-BCE5-049B8D2D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AD8B-453D-4F4B-A609-FA9875C2F1E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4E60-8187-46F8-8D7E-C2C2B9DB83D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irgendwas@irgendwo" TargetMode="External"/><Relationship Id="rId2" Type="http://schemas.openxmlformats.org/officeDocument/2006/relationships/hyperlink" Target="http://localhost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221304"/>
                </a:solidFill>
                <a:latin typeface="Times New Roman"/>
              </a:rPr>
              <a:t>The  Wamp-Projec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pa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My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21304"/>
                </a:solidFill>
                <a:latin typeface="Times New Roman"/>
              </a:rPr>
              <a:t>Apache installieren und test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pache  *.msi Installer-Version installieren nach D:\Apa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Eingab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omainname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ems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ervername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eigene IP&gt; z.B. 10.3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dmin-Email: </a:t>
            </a:r>
            <a:r>
              <a:rPr b="0" lang="de-DE" sz="24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irgendwas@irgend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Test mit </a:t>
            </a:r>
            <a:r>
              <a:rPr b="0" lang="de-DE" sz="28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http://localhost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 (Proxy abschalten !!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eitere Te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i /htdocs/index.html.de ändern / an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griff auf andere Schüler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griff auf Unterverzeichnis /htdocs/test/index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21304"/>
                </a:solidFill>
                <a:latin typeface="Times New Roman"/>
              </a:rPr>
              <a:t>MySQL installieren und test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ySQL.x.x.win.zip nach D:\mysql inst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tart mit  \bin\winmysqladmin.ex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ser root und Passwort eingeben (gut mer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mpel öffnen und Oberfläche te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Zugriff mit DOS-Client  \bin\mysq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how databases \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se mysql \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how tables \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elect * from user \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Zugriff mit MySQL-Fro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ue Verbindung local definieren (Name / Passw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okal connecten und testen (evtl. PW = le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21304"/>
                </a:solidFill>
                <a:latin typeface="Times New Roman"/>
              </a:rPr>
              <a:t>PHP installieren und test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hp.x.x.x.win.zip nach D:\php4\ inst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pache\conf\httpd.conf wie folgt anpass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 Wordpad am Ende der Datei ergänz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riptAlias /php/ „D:/php/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ddType application/x-httpd-php .php .ph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ction application/x-httpd-php „/php/php.ex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pache neu star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atei mit &lt;?phpinfo (); ?&gt; erzeugen und als info.php in \htdocs speich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m Browser info.php aufrufen und Informationen auswer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21304"/>
                </a:solidFill>
                <a:latin typeface="Times New Roman"/>
              </a:rPr>
              <a:t>phpMyAdmin installier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kript nach \htdocs installi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vtl.  Verzeichnis nach pma umbenen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atei config.inc.php3 mit Wordpad aktuelles Passwort eingeb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u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urier Neu"/>
              </a:rPr>
              <a:t>$cfgServers[1]['password']      =‚akt-passwd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urier Neu"/>
              </a:rPr>
              <a:t>Localhost/pma/index.php aufruf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urier Neu"/>
              </a:rPr>
              <a:t>MySQL-Datenbank verwal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MS</cp:lastModifiedBy>
  <dcterms:modified xsi:type="dcterms:W3CDTF">2002-12-03T16:26:02Z</dcterms:modified>
  <cp:revision>1</cp:revision>
  <dc:subject/>
  <dc:title>PowerPoint Presentation</dc:title>
</cp:coreProperties>
</file>