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50F-59A1-4A0C-851C-06B6A10B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884-13BD-481E-BAEA-800AB533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AB0-8044-499E-B79E-FAE62CF4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3C1-DB60-4536-AFDC-D89ACFC5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7707-EE5B-4670-AF96-0333E5CE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5B68-FD14-4DEE-A2D8-25830A6E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2A62-3ABC-4DEF-8B22-8F381B36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7ED4-8456-4A8C-AC0B-6E441139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E03A-27EC-43DC-B7DD-43F2878E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A1F1-2911-4B92-9764-041F4345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EE31-88C1-475A-9ED0-B7846EFC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FE9-54C1-492B-809D-58657B42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18F1-3689-4FEA-970F-14AA45D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36AE-F554-40F1-8722-2644B587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0348-63CF-48DC-B454-7FFCF572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32D1-1CB4-4CED-8CC6-41E4373A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FA32-A2BC-49EE-B74C-64C29F63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451-18DC-49DD-885E-20564F84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555-A7F9-4B4C-8ECD-21FCCDC7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152-A190-4D09-BDAF-E368B053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65F-1C5F-4AE9-9C97-EF496162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3EE-1A3F-4F1E-A5D2-C70DC5CB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D8C-6011-45A0-9A88-C072DB0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FC7-65BB-4808-8B3A-C5DAB4DD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279-55A2-4962-8E3C-D630B7CDD7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DBC-26C0-457B-BC65-0425FA719A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rgendwas@irgendwo" TargetMode="External"/><Relationship Id="rId2" Type="http://schemas.openxmlformats.org/officeDocument/2006/relationships/hyperlink" Target="http://localhos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21304"/>
                </a:solidFill>
                <a:latin typeface="Times New Roman"/>
              </a:rPr>
              <a:t>The  Wamp-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Apache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 *.msi Installer-Version installieren nach D:\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g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ain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s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er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eigene IP&gt; z.B. 10.3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min-Email: </a:t>
            </a:r>
            <a:r>
              <a:rPr b="0" lang="de-DE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irgendwas@irgend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st mit </a:t>
            </a:r>
            <a:r>
              <a:rPr b="0" lang="de-DE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localhost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(Proxy abschalten 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tere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i /htdocs/index.html.de ändern / an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andere Schüler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Unterverzeichnis /htdocs/test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MySQL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ySQL.x.x.win.zip nach D:\mysql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 mit  \bin\winmysqladmin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root und Passwort eingeben (gut mer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mpel öffnen und Oberfläche t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DOS-Client  \bin\my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databas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mysql \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tabl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 * from user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MySQL-Fr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Verbindung local definieren (Name / Passw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kal connecten und testen (evtl. PW = l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hp.x.x.x.win.zip nach D:\php4\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\conf\httpd.conf wie folgt anpass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Wordpad am Ende der Datei ergänz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riptAlias /php/ „D:/php/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dType application/x-httpd-php .php .ph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on application/x-httpd-php „/php/php.ex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neu st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i mit &lt;?phpinfo (); ?&gt; erzeugen und als info.php in \htdocs speich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Browser info.php aufrufen und Informationen auswe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MyAdmin installier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kript nach \htdocs instal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vtl.  Verzeichnis nach pma umben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tei config.inc.php3 mit Wordpad aktuelles Passwort einge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u"/>
              </a:rPr>
              <a:t>$cfgServers[1]['password']      =‚akt-passwd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Localhost/pma/index.php aufru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MySQL-Datenbank verwa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MS</cp:lastModifiedBy>
  <dcterms:modified xsi:type="dcterms:W3CDTF">2002-12-03T16:26:02Z</dcterms:modified>
  <cp:revision>1</cp:revision>
  <dc:subject/>
  <dc:title>PowerPoint Presentation</dc:title>
</cp:coreProperties>
</file>