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FF56-3A59-4AF6-91FD-6ED3A75EC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F34D-9520-4CF7-A40E-30EDC41F6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1C16-E718-4924-9498-1CAD10112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FDCA-426B-493C-B98F-AB0A0DC84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DEE18-862A-4048-BA5B-89138A4AE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C0394-C153-4977-8D6D-F49D3276B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0D032-B850-4BCE-84C1-14BB17005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42FF3-7C55-4B95-A864-BC1DFE2CB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A6A6D-63FF-4919-ABC2-7CEF3ADE0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37719-4DF9-45C4-B61E-110537865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6F576-B739-4696-8F0B-05248A15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48F6-B1B5-4F79-89C7-DF6A12AF6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B29A1-7B18-468F-8277-B33CA5CB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EE03B-B50F-4053-BBE8-8E2C7C07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13B6D-EAD7-400A-8572-48242FE5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961AC-67E8-4536-B9E3-F55DEED8C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43EA6-0C17-4FEC-B380-7FBAF9846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7924-CAE2-4397-8E84-5DCCEF4D4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5BD0-6273-4A08-B1FF-F50F48653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837B-E69C-440B-B8CE-62ECEACEB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1E8D-3AC6-44D5-BC18-F02E171CC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2EF1-66F4-4563-97F0-2D6C3F0B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EC92-1864-45CE-9831-14DE1F84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C6DB-5EC1-4015-9A2F-377A4494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1A862-9890-4962-BADF-C504A24A689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1B298-8D8B-4AD2-9CF3-4C0B9976BDF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irgendwas@irgendwo" TargetMode="External"/><Relationship Id="rId2" Type="http://schemas.openxmlformats.org/officeDocument/2006/relationships/hyperlink" Target="http://localhost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221304"/>
                </a:solidFill>
                <a:latin typeface="Times New Roman"/>
              </a:rPr>
              <a:t>The  Wamp-Projec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Apa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My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221304"/>
                </a:solidFill>
                <a:latin typeface="Times New Roman"/>
              </a:rPr>
              <a:t>Apache installieren und test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pache  *.msi Installer-Version installieren nach D:\Apa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Eingab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omainname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ems.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ervername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eigene IP&gt; z.B. 10.3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dmin-Email: </a:t>
            </a:r>
            <a:r>
              <a:rPr b="0" lang="de-DE" sz="24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irgendwas@irgendw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Test mit </a:t>
            </a:r>
            <a:r>
              <a:rPr b="0" lang="de-DE" sz="28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http://localhost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 (Proxy abschalten !!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Weitere Tes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atei /htdocs/index.html.de ändern / anp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ugriff auf andere Schüler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ugriff auf Unterverzeichnis /htdocs/test/index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221304"/>
                </a:solidFill>
                <a:latin typeface="Times New Roman"/>
              </a:rPr>
              <a:t>MySQL installieren und test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MySQL.x.x.win.zip nach D:\mysql inst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Start mit  \bin\winmysqladmin.ex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ser root und Passwort eingeben (gut mer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mpel öffnen und Oberfläche te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Zugriff mit DOS-Client  \bin\mysq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how databases \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se mysql \g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how tables \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elect * from user \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Zugriff mit MySQL-Fro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eue Verbindung local definieren (Name / Passwo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okal connecten und testen (evtl. PW = le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221304"/>
                </a:solidFill>
                <a:latin typeface="Times New Roman"/>
              </a:rPr>
              <a:t>PHP installieren und test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Php.x.x.x.win.zip nach D:\php4\ inst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pache\conf\httpd.conf wie folgt anpass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it Wordpad am Ende der Datei ergänz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criptAlias /php/ „D:/php/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ddType application/x-httpd-php .php .php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ction application/x-httpd-php „/php/php.ex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pache neu star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Datei mit &lt;?phpinfo (); ?&gt; erzeugen und als info.php in \htdocs speich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m Browser info.php aufrufen und Informationen auswer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221304"/>
                </a:solidFill>
                <a:latin typeface="Times New Roman"/>
              </a:rPr>
              <a:t>phpMyAdmin installier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kript nach \htdocs installi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Evtl.  Verzeichnis nach pma umbenen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Datei config.inc.php3 mit Wordpad aktuelles Passwort eingeb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u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urier Neu"/>
              </a:rPr>
              <a:t>$cfgServers[1]['password']      =‚akt-passwd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urier Neu"/>
              </a:rPr>
              <a:t>Localhost/pma/index.php aufruf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urier Neu"/>
              </a:rPr>
              <a:t>MySQL-Datenbank verwal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EMS</cp:lastModifiedBy>
  <dcterms:modified xsi:type="dcterms:W3CDTF">2002-12-03T16:26:02Z</dcterms:modified>
  <cp:revision>1</cp:revision>
  <dc:subject/>
  <dc:title>PowerPoint Presentation</dc:title>
</cp:coreProperties>
</file>